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919-4037-4762-82EF-447D79BA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199-3025-4D58-B23E-69B3482D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DE7-71FD-4E10-AE61-AECF838E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BB5-ABE7-4CEF-8251-C9F77D99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60F-01DE-477C-A350-195FB3B7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1F7-5527-41A6-8791-2B055473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2FF-8715-4F1E-AB0C-126C24DF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890-A1BD-42FC-BA17-AAEC046B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FFB-1229-4167-AEBF-EAC8D57C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70C-4D99-4214-88B7-6DE0AA32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1CB-77CC-4813-B278-9366E8E8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A91-A6AE-4E86-9BC7-B92DD56E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A6B-469F-40BB-8FC9-ABF05E64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47920" y="1371600"/>
            <a:ext cx="64767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 de carr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nt de 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centrer à l'a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981080" y="1219320"/>
            <a:ext cx="586764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ays qu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ui a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l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05120" y="1523880"/>
            <a:ext cx="556236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pein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andale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43000" y="990720"/>
            <a:ext cx="64008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pr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tiqué son ent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Sal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et a pass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jeun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90720" y="990720"/>
            <a:ext cx="6858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Monet a pass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nnées de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er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anco-prussienn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52480" y="1219320"/>
            <a:ext cx="59436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 1ère 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modè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équen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1066680"/>
            <a:ext cx="6629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qu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hangé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leurs de 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371600" y="1143000"/>
            <a:ext cx="6172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vill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il est enterr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447920" y="1066680"/>
            <a:ext cx="6095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v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naiss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52480" y="1295280"/>
            <a:ext cx="52578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premi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v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tist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752480" y="1066680"/>
            <a:ext cx="58676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alad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t il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uffe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écol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914400"/>
            <a:ext cx="60195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premi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ître/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étier de s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1295280"/>
            <a:ext cx="541008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ll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iss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600200" y="1219320"/>
            <a:ext cx="58672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fe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23880" y="1219320"/>
            <a:ext cx="6019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 origi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carr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523880" y="1143000"/>
            <a:ext cx="56390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alad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fin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v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219320"/>
            <a:ext cx="58676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il a pe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toile achet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 un mus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371600" y="1447920"/>
            <a:ext cx="6324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ll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iss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43000" y="1143000"/>
            <a:ext cx="6629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rière av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'étudier l'a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1066680"/>
            <a:ext cx="701028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ujet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gr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euvr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iladelph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1143000"/>
            <a:ext cx="67053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est consider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ont en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manticisme et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1371600"/>
            <a:ext cx="64008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ys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'il a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3880" y="1219320"/>
            <a:ext cx="6248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'instit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'art offici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refus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Impressionnis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19320" y="121932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ho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us importan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pturer che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Impressionnis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05120" y="1600200"/>
            <a:ext cx="5257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ils aima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ind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43000" y="1371600"/>
            <a:ext cx="67057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ein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pons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 n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mpressionnistes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371600" y="990720"/>
            <a:ext cx="6248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'anné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1è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Refus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n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ad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luen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o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è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endro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66680" y="2514600"/>
            <a:ext cx="6705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ie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lad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fluenc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i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èm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droi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dentifiez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63120" y="6477120"/>
            <a:ext cx="228600" cy="152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90720" y="1295280"/>
            <a:ext cx="6933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arac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95280" y="1447920"/>
            <a:ext cx="6400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thr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g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52480" y="1828800"/>
            <a:ext cx="60199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ug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amb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put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600200" y="1371600"/>
            <a:ext cx="57913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t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neumon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600200" y="2057400"/>
            <a:ext cx="59436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pa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752480" y="1828800"/>
            <a:ext cx="58676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voy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bât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'Amér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su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295280" y="114300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maî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ugène Boudin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agi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676520" y="1371600"/>
            <a:ext cx="5790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prop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ard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ul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ffi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 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jeu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'Herb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éza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371600" y="1143000"/>
            <a:ext cx="66294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res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eil Lev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219320" y="114300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bureau 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ton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uvelle-Orlé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8080" y="91440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ymphé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066680" y="1219320"/>
            <a:ext cx="67057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Bar 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lies-Bergè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43000" y="1905120"/>
            <a:ext cx="6629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baller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23880" y="1219320"/>
            <a:ext cx="59436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fem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ses et (un peu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19320" y="1371600"/>
            <a:ext cx="67816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int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cto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905120" y="243828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v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371600" y="1066680"/>
            <a:ext cx="67057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e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quefo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bata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a 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r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1600200"/>
            <a:ext cx="71625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ressionnis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ix-en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mo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gentue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gnes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1900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486400" cy="4457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2819520" y="54100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country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4000320" cy="5715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3581280" y="51814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at-races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7010280" cy="4362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752480" y="175248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ishingboatsleaveharbor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858000" cy="4149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362320" y="99072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EdouardManet-LuncheonInTheStudio-VR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19920" cy="460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438280" y="99072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l'a pei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Bâteaux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n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n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noi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ga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ézan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mpression-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ism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ù a été le bâteau-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telier; et c'était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e qui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rgenteuil-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n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95280" y="297180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lle de naiss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dsa'ljg'prg</cp:lastModifiedBy>
  <dcterms:modified xsi:type="dcterms:W3CDTF">2008-06-24T10:30:58Z</dcterms:modified>
  <cp:revision>38</cp:revision>
  <dc:subject/>
  <dc:title>No Slide Title</dc:title>
</cp:coreProperties>
</file>